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CAAB-7BFB-4FEE-8047-DF33C9500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FF5E-9642-4E87-917B-8BF35EA93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8201-5350-44F7-A7A9-0CC460725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6AA6-209E-4C2A-84B7-CBB16D4AC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CC9BE-6DB9-4C4B-AB45-3B167F7591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1695F-DA8C-4A2E-B2DB-E465DA0C72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566D4-1785-4115-B560-FB0D90891A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B0638-FB3D-4A57-B5B4-7E2D5FAEC2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C0F4-7A73-437C-87C8-2FED01213B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3234D-8E1D-40CF-9B96-0DBE8C2D8F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A50C-F497-4E12-BD0C-BBBAAB742D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D843-9B52-4871-84BB-30A5BAF48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97758-CD62-408E-8C7A-430509A3FC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311EE-1A8B-4D7D-8687-AEEC519455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2DD30-A90F-4283-B823-415F1A874A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25DC1-060F-448B-9947-5FD4780162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5145-6ABE-430D-A26A-49EBD27582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7B03-C276-45F8-9E02-CD2338481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8542-0201-4A34-9BDC-7B31820A8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D7F4-4524-4D16-AA14-72AAE7277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D8D9-C718-48FE-BCEE-03ECC4834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46A5C-CD38-44CD-93BC-E56781C3D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8EAC-E483-4F8E-9AF6-9E40B4B14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1787-5DC2-4D06-96D8-0A5A682D2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DC53-4545-40D6-9594-578461D11C8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10800000">
            <a:off x="-1440" y="2514600"/>
            <a:ext cx="546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ord – Lesson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219320" y="652140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icrosoft Office 2003 BASICS                              Pasewark &amp; Pasewar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FC37-EC4C-4192-A286-C71B257267A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6248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sewark &amp; Pasewar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640" y="3392640"/>
            <a:ext cx="8136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Microsoft Office 2003 BASICS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ICROSOFT WORD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sson 1 — Word Basic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97BA4-D20E-4956-B90D-446877BD1C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Navigating Through a Documen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2514600"/>
          <a:ext cx="6292800" cy="3344760"/>
        </p:xfrm>
        <a:graphic>
          <a:graphicData uri="http://schemas.openxmlformats.org/drawingml/2006/table">
            <a:tbl>
              <a:tblPr/>
              <a:tblGrid>
                <a:gridCol w="2295360"/>
                <a:gridCol w="3997440"/>
              </a:tblGrid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MOVE THE INSERTION POI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ight arrow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ight one charac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ft arrow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ft one charac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wn arrow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next lin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p arrow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previous lin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end of the lin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o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beginning of a lin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ge Dow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next pa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ge up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previous pa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8DEF-AE84-4C09-AAA7-97ACBDCF50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Navigating Through a Document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47920" y="2514600"/>
          <a:ext cx="6292800" cy="1962000"/>
        </p:xfrm>
        <a:graphic>
          <a:graphicData uri="http://schemas.openxmlformats.org/drawingml/2006/table">
            <a:tbl>
              <a:tblPr/>
              <a:tblGrid>
                <a:gridCol w="2332080"/>
                <a:gridCol w="3960720"/>
              </a:tblGrid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MOVE THE INSERTION POI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tl+right arrow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next wor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tl+left arrow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previous wor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trl+En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end of the docum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tl+Ho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beginning of the document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0A3D-2C0B-4804-91C5-D3CE66A2F5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aving a Fil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543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Save A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–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File, Save A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Do when saving a file for the first time, saving a file using a different name, or saving a file to a new location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Sav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– After you have already saved a file, choose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File, Sav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or the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Save butto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on the Standard toolbar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This will update the file, but does not open the Save As dialog box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003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867280" y="57150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51EC-654A-4811-AD3A-BFA8579A7D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pening a Documen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49000"/>
            <a:ext cx="769320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ile, Open: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open an existing document, or click 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Open butt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n the Standard tool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40360" y="4041720"/>
            <a:ext cx="12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3080" y="260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4360" y="657360"/>
            <a:ext cx="15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87640" y="3944880"/>
            <a:ext cx="1079640" cy="102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2E48-53BA-44AA-A483-D288859D4A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Zoom View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Zoom vie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– allows you to magnify and reduce the document on the scre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iew, Zoo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Allows you to change the percentage of magnifica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AA13-8686-4F84-B8FA-99E0F84BD1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ull Screen View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ull Screen vie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removes the toolbars, rulers, and scrollbars from the scre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View, Full Screen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78DC-03E5-45DF-B386-7CFC42E7F2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rint Preview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7313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int Previe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allows you to view a document as it will appear when it is printed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ile, Print Previe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or click 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rint Previe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utton on the Standard tool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6736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4000" y="260280"/>
            <a:ext cx="14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977080" y="497844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AB0AA-3DF0-4204-9C15-B835C08E8C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ge Orienta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rtrait orient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documents are longer than they are w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ndscape orient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documents are wider than they are lo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hange the orientation of a document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ile, Page Set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A7C5-DA6B-4217-911F-0FB2702405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ge Orienta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603520" cy="3276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80000" y="2924280"/>
            <a:ext cx="3529080" cy="273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B61E-56A7-47EC-A369-5605EEB112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rinting a Documen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ile, Print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int dialog box will appe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also click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rint butt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n either the Standard or the Print Preview toolbars. **The Print dialog box will not appear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43280" y="5192640"/>
            <a:ext cx="162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904000" y="5337000"/>
            <a:ext cx="718920" cy="6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7A17-081F-4356-8B2F-25BB615E88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 new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the parts of the opening scre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now the five ways to view a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er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e the insertion point in a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ve a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1FDC-FA0E-4021-947C-7ABC1AE0A8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rint Dialog Box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95280" y="2529000"/>
            <a:ext cx="4972320" cy="3771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32720" y="3213000"/>
            <a:ext cx="197964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rinter Choi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Number of Cop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nge (What to print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Networked Printe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HS218La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0759-DF46-4D52-BE60-B8A8E774F4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tandard Toolba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5862" r="35937" b="89954"/>
          <a:stretch/>
        </p:blipFill>
        <p:spPr>
          <a:xfrm>
            <a:off x="792000" y="2819520"/>
            <a:ext cx="8047080" cy="393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71640" y="4329000"/>
            <a:ext cx="75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New Document, Open, Print, Print Preview, Spell Check, Cut, Copy, Past, Undo, Redo, Show/Hide, Zo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FB97-6493-4763-8E30-3E24AFDEBA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rmatting Toolba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9568" r="32814" b="86090"/>
          <a:stretch/>
        </p:blipFill>
        <p:spPr>
          <a:xfrm>
            <a:off x="539640" y="3176640"/>
            <a:ext cx="8352000" cy="40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00000" y="4545000"/>
            <a:ext cx="77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tyle, Font, Font Size, Bold, Italic, Underline, Alignments, Number Bullets, Symbol Bullets, Highlight, Font Colo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DBB0-5BEC-4195-81FF-1A7E181638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Word is a word-processing program used to create documents such as letters, memos, forms, reports, and even Web pag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he key elements of the opening screen are the Standard and Formatting toolbars, ruler, insertion point, view buttons, status bar, and task pa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5F02-3178-453C-9CB1-DBFA09049F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Summary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You can view the document screen in Normal view, Web Layout view, Print Layout view, Outline view, and Reading Layout view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he insertion point can be placed anywhere within the document using the keyboard or mo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D996-C0C9-4E34-978E-ACF8A3902E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word wrap feature automatically wraps words around to the next line if they will not fit on the current l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he first time that you save a document, use Save As on the File men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Locate and open existing documents through the Open dialog bo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BEA3-97DD-458E-AB8A-7C46CD41B2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Summary (cont.)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Zoom view allows you to magnify or reduce a document on the scre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Full Screen view removes the toolbars, rulers, and scroll bars from the scre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Use the Page Setup dialog box to change the page orient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55EB-2F78-43F6-BC34-E6376802B5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t Preview allows you to view a document as it will appear when prin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rint a document by choosing Print from the File menu or by clicking the Print button on the Standard toolbar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013F-8BCA-4EC9-A0C8-5E05EA54E5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Zoom to magnify and reduce a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a document to Full Screen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view a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a document’s page orient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t a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te and open an existing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234C-D603-454D-BB88-3FA56AB3A4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erms Used in This Less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ll Screen 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scape ori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rtrait ori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t Pre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 wra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om 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CF04A-674D-48C3-9193-003960F59A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What Is Word?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word-processing application in the Microsoft Office 2003 suit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to enter and edit tex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nd edit documents, such as letters and report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E337-480D-4AE4-A651-34359AF209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Understanding the Opening 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View Scree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16000" y="2514600"/>
          <a:ext cx="7524720" cy="3325680"/>
        </p:xfrm>
        <a:graphic>
          <a:graphicData uri="http://schemas.openxmlformats.org/drawingml/2006/table">
            <a:tbl>
              <a:tblPr/>
              <a:tblGrid>
                <a:gridCol w="1871640"/>
                <a:gridCol w="56530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nc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andard toolba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tains buttons for tasks such as printing and opening documents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rmatting toolba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tains buttons for changing the format of characters and paragraphs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l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ed to change indents, tabs, and margins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sertion poi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ows where text will appear when you begin keying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iew button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anges views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atus ba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ows the portion of the document is shown on the screen and the location of the insertion point. Also shows the status of Word features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E86E-8B34-4D5B-AE35-F5366AFE8F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ask Pan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eparate window on the right-hand side of the document window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ains commonly used commands for functions such as styles, formatting, and clip a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537F-6C82-47D6-A3DD-1B99334601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dentifying the Parts of the 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pening Scree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47640" y="2600280"/>
            <a:ext cx="6551640" cy="3695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416720" y="2673360"/>
            <a:ext cx="144000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tandard Toolb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rmatting Toolb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ul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sertion Poi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View Butt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tatus B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ask Pan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3238-4A99-42B3-AA86-6BB5705326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ive Ways to View a Documen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rmal view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simplified layout of the page so you can key, edit, and format tex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b Layout view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shows how a document looks when viewed as a Web pa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int Layout view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shows how a document looks when it is print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utline view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displays headings and text in outline for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ading view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shows text on the screen in a form that is easy to re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3EEF0-CC39-4F5F-AAE0-A6EDD15C5F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9T08:43:46Z</dcterms:created>
  <dc:creator>Pasewar Co.</dc:creator>
  <dc:description/>
  <dc:language>en-US</dc:language>
  <cp:lastModifiedBy>LDSD</cp:lastModifiedBy>
  <dcterms:modified xsi:type="dcterms:W3CDTF">2009-09-16T17:37:14Z</dcterms:modified>
  <cp:revision>100</cp:revision>
  <dc:subject/>
  <dc:title>Microsoft Office XP: Introductory</dc:title>
</cp:coreProperties>
</file>